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CBBBA-34AB-4F00-965F-ECF73E6F107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90AD5-CC2C-426F-81F6-E7DB52A11CC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FDF03-40FA-49B3-9AB0-37DA86EC655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C975-F940-480D-BF63-C6FA51E0BF4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81B33-C8F8-4CF5-AE57-055E37DEDE3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1C4C5-12A1-43A9-8674-E405A084BA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3BB13-6AB6-4EA4-A694-7540AD57A2F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32A-993A-4F15-9D16-BB1863D0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B41-5262-4516-8D04-7397C4EF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3BE-F93F-4AC7-BAF5-9FC75C16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F53-CF0E-418C-B997-C59703A7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731-3583-408F-BD53-6DA1C08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8B8-83FB-41C8-8871-E39BEDDB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F7E-9052-4953-A6D2-B4D2A36E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62A-11E5-4578-8C3A-8181811D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37F-530B-48C7-9AFA-4D52B0F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FFF-3A1C-48E0-B8B5-8F59721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81B-E139-45CD-A0AA-662C54C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427-553B-4B31-AD28-0CC14F70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B6CDD-E6F8-4807-A9EF-475514123ED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60720" y="2340000"/>
            <a:ext cx="4319640" cy="414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19280" y="539640"/>
            <a:ext cx="774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Qué es la TECNOLOGÍ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619280" y="539640"/>
            <a:ext cx="7740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Qué es la Tecnologí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240000" y="2879640"/>
            <a:ext cx="3780000" cy="378000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1800360" y="3959280"/>
            <a:ext cx="1439640" cy="360360"/>
          </a:xfrm>
          <a:prstGeom prst="line">
            <a:avLst/>
          </a:prstGeom>
          <a:ln w="1080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7184880" y="3959280"/>
            <a:ext cx="1098720" cy="181080"/>
          </a:xfrm>
          <a:prstGeom prst="line">
            <a:avLst/>
          </a:prstGeom>
          <a:ln w="1080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6824160" y="5384880"/>
            <a:ext cx="932040" cy="210960"/>
          </a:xfrm>
          <a:prstGeom prst="line">
            <a:avLst/>
          </a:prstGeom>
          <a:ln w="1080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79280" y="2879640"/>
            <a:ext cx="306072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Comunicación con los o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020000" y="2340000"/>
            <a:ext cx="2916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Supervivencia y 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559640" y="5219640"/>
            <a:ext cx="216072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Hacer nuestras vidas más senci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152360" y="1332000"/>
            <a:ext cx="856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950e"/>
                </a:solidFill>
                <a:latin typeface="Arial"/>
              </a:rPr>
              <a:t>Los productos son diseñados y creados para resolver problemas particulares com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60720" y="2340000"/>
            <a:ext cx="4319640" cy="4140000"/>
          </a:xfrm>
          <a:prstGeom prst="rect">
            <a:avLst/>
          </a:prstGeom>
          <a:ln w="0">
            <a:noFill/>
          </a:ln>
        </p:spPr>
      </p:pic>
      <p:sp>
        <p:nvSpPr>
          <p:cNvPr id="68" name="Line 3"/>
          <p:cNvSpPr/>
          <p:nvPr/>
        </p:nvSpPr>
        <p:spPr>
          <a:xfrm>
            <a:off x="2160720" y="2700360"/>
            <a:ext cx="1439640" cy="539640"/>
          </a:xfrm>
          <a:prstGeom prst="line">
            <a:avLst/>
          </a:prstGeom>
          <a:ln w="108000">
            <a:solidFill>
              <a:srgbClr val="00d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1619280" y="5040360"/>
            <a:ext cx="3060720" cy="539640"/>
          </a:xfrm>
          <a:prstGeom prst="line">
            <a:avLst/>
          </a:prstGeom>
          <a:ln w="108000">
            <a:solidFill>
              <a:srgbClr val="00d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619280" y="539640"/>
            <a:ext cx="774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l impacto de la Tecnología se refleja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60360" y="5400720"/>
            <a:ext cx="23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ffff"/>
                </a:solidFill>
                <a:latin typeface="Arial"/>
              </a:rPr>
              <a:t>Individuos y sociedades a escala más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9640" y="2879640"/>
            <a:ext cx="1800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ffff"/>
                </a:solidFill>
                <a:latin typeface="Arial"/>
              </a:rPr>
              <a:t>A escala global, especialmente a nivel medioambi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079640" y="1619280"/>
            <a:ext cx="7956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Para vosotros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¿QUÉ ES LA TECNOLOGÍ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079640" y="395280"/>
            <a:ext cx="7956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¿Cuáles de estos productos son TECNOLÓGIC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568440" y="1927080"/>
            <a:ext cx="258120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2 Imagen" descr=""/>
          <p:cNvPicPr/>
          <p:nvPr/>
        </p:nvPicPr>
        <p:blipFill>
          <a:blip r:embed="rId2"/>
          <a:stretch/>
        </p:blipFill>
        <p:spPr>
          <a:xfrm>
            <a:off x="6611760" y="1908000"/>
            <a:ext cx="3056040" cy="2251080"/>
          </a:xfrm>
          <a:prstGeom prst="rect">
            <a:avLst/>
          </a:prstGeom>
          <a:ln w="0">
            <a:noFill/>
          </a:ln>
        </p:spPr>
      </p:pic>
      <p:pic>
        <p:nvPicPr>
          <p:cNvPr id="79" name="3 Imagen" descr=""/>
          <p:cNvPicPr/>
          <p:nvPr/>
        </p:nvPicPr>
        <p:blipFill>
          <a:blip r:embed="rId3"/>
          <a:stretch/>
        </p:blipFill>
        <p:spPr>
          <a:xfrm>
            <a:off x="3745080" y="1908000"/>
            <a:ext cx="2411280" cy="2349720"/>
          </a:xfrm>
          <a:prstGeom prst="rect">
            <a:avLst/>
          </a:prstGeom>
          <a:ln w="0">
            <a:noFill/>
          </a:ln>
        </p:spPr>
      </p:pic>
      <p:pic>
        <p:nvPicPr>
          <p:cNvPr id="80" name="4 Imagen" descr=""/>
          <p:cNvPicPr/>
          <p:nvPr/>
        </p:nvPicPr>
        <p:blipFill>
          <a:blip r:embed="rId4"/>
          <a:stretch/>
        </p:blipFill>
        <p:spPr>
          <a:xfrm>
            <a:off x="568440" y="4257720"/>
            <a:ext cx="2603520" cy="2047680"/>
          </a:xfrm>
          <a:prstGeom prst="rect">
            <a:avLst/>
          </a:prstGeom>
          <a:ln w="0">
            <a:noFill/>
          </a:ln>
        </p:spPr>
      </p:pic>
      <p:pic>
        <p:nvPicPr>
          <p:cNvPr id="81" name="5 Imagen" descr=""/>
          <p:cNvPicPr/>
          <p:nvPr/>
        </p:nvPicPr>
        <p:blipFill>
          <a:blip r:embed="rId5"/>
          <a:stretch/>
        </p:blipFill>
        <p:spPr>
          <a:xfrm>
            <a:off x="3456000" y="4716360"/>
            <a:ext cx="3386160" cy="2257560"/>
          </a:xfrm>
          <a:prstGeom prst="rect">
            <a:avLst/>
          </a:prstGeom>
          <a:ln w="0">
            <a:noFill/>
          </a:ln>
        </p:spPr>
      </p:pic>
      <p:pic>
        <p:nvPicPr>
          <p:cNvPr id="82" name="6 Imagen" descr=""/>
          <p:cNvPicPr/>
          <p:nvPr/>
        </p:nvPicPr>
        <p:blipFill>
          <a:blip r:embed="rId6"/>
          <a:stretch/>
        </p:blipFill>
        <p:spPr>
          <a:xfrm>
            <a:off x="6921360" y="4351320"/>
            <a:ext cx="298476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206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079640" y="1619280"/>
            <a:ext cx="7956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Y la siguiente pregunta sería…¿CÓMO SE ESTUDIA TECNOLOGÍA EN EL COLEGI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UNA PALABRA: P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1:43:46Z</dcterms:created>
  <dc:creator>Colegio de San Francisco de Paula Colegio de San Francisco de Paula</dc:creator>
  <dc:description/>
  <dc:language>en-US</dc:language>
  <cp:lastModifiedBy>sfpaula.default</cp:lastModifiedBy>
  <dcterms:modified xsi:type="dcterms:W3CDTF">2012-09-06T10:18:31Z</dcterms:modified>
  <cp:revision>5</cp:revision>
  <dc:subject/>
  <dc:title>Presentación de PowerPoint</dc:title>
</cp:coreProperties>
</file>